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artyhorn.wav" ContentType="audio/x-wav"/>
  <Override PartName="/ppt/media/boinng04.wav" ContentType="audio/x-wav"/>
  <Override PartName="/ppt/media/highchime.wav" ContentType="audio/x-wav"/>
  <Override PartName="/ppt/media/camera.wav" ContentType="audio/x-wav"/>
  <Override PartName="/ppt/media/image6.wmf" ContentType="image/x-wmf"/>
  <Override PartName="/ppt/media/children%20big%20yeah.wav" ContentType="audio/x-wav"/>
  <Override PartName="/ppt/media/zapbig0g.wav" ContentType="audio/x-wav"/>
  <Override PartName="/ppt/media/PROJCTOR.WAV" ContentType="audio/x-wav"/>
  <Override PartName="/ppt/media/image4.wmf" ContentType="image/x-wmf"/>
  <Override PartName="/ppt/media/gunshot.wav" ContentType="audio/x-wav"/>
  <Override PartName="/ppt/media/zipby102.wav" ContentType="audio/x-wav"/>
  <Override PartName="/ppt/media/zipup202.wav" ContentType="audio/x-wav"/>
  <Override PartName="/ppt/media/zipdn102.wav" ContentType="audio/x-wav"/>
  <Override PartName="/ppt/media/image3.wmf" ContentType="image/x-wmf"/>
  <Override PartName="/ppt/media/zapvib04.wav" ContentType="audio/x-wav"/>
  <Override PartName="/ppt/media/image9.wmf" ContentType="image/x-wmf"/>
  <Override PartName="/ppt/media/image8.wmf" ContentType="image/x-wmf"/>
  <Override PartName="/ppt/media/lzipup01.wav" ContentType="audio/x-wav"/>
  <Override PartName="/ppt/media/image7.wmf" ContentType="image/x-wmf"/>
  <Override PartName="/ppt/media/caralarmoff.wav" ContentType="audio/x-wav"/>
  <Override PartName="/ppt/media/image2.wmf" ContentType="image/x-wmf"/>
  <Override PartName="/ppt/media/image1.png" ContentType="image/png"/>
  <Override PartName="/ppt/media/glass.wav" ContentType="audio/x-wav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D6F-4124-4B12-8D1B-DE64E99D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179-211C-4A1E-BDC9-E7C12A5B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698-486E-4231-8CFD-C30ED2DE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9D3-825C-4A70-91E4-B5EBEC74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FFC-4DB8-42CE-A86B-C9E857F5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465-6EC1-4A19-BB02-DA4D97A8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A4E-91ED-4A3F-897D-6901BA4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BB1-B05E-4A10-8789-523B68A4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30A-3627-4DA4-84AA-17C7242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74F-D4ED-4F72-B2A9-04129B17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6C1-D744-4CA4-AB34-F061695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C5B-24A1-49DD-9CCE-66118C18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0535-A36A-495D-A3AA-985E9A32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wmf"/><Relationship Id="rId20" Type="http://schemas.openxmlformats.org/officeDocument/2006/relationships/audio" Target="../media/zipdn102.wav"/><Relationship Id="rId21" Type="http://schemas.openxmlformats.org/officeDocument/2006/relationships/audio" Target="../media/PROJCTOR.WAV"/><Relationship Id="rId22" Type="http://schemas.openxmlformats.org/officeDocument/2006/relationships/audio" Target="../media/highchime.wav"/><Relationship Id="rId23" Type="http://schemas.openxmlformats.org/officeDocument/2006/relationships/audio" Target="../media/partyhorn.wav"/><Relationship Id="rId24" Type="http://schemas.openxmlformats.org/officeDocument/2006/relationships/audio" Target="../media/partyhorn.wav"/><Relationship Id="rId25" Type="http://schemas.openxmlformats.org/officeDocument/2006/relationships/audio" Target="../media/zapbig0g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zipdn102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boinng04.wav"/><Relationship Id="rId9" Type="http://schemas.openxmlformats.org/officeDocument/2006/relationships/audio" Target="../media/boinng04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zipdn102.wav"/><Relationship Id="rId17" Type="http://schemas.openxmlformats.org/officeDocument/2006/relationships/audio" Target="../media/caralarmoff.wav"/><Relationship Id="rId18" Type="http://schemas.openxmlformats.org/officeDocument/2006/relationships/audio" Target="../media/zipdn102.wav"/><Relationship Id="rId19" Type="http://schemas.openxmlformats.org/officeDocument/2006/relationships/audio" Target="../media/children%20big%20yeah.wav"/><Relationship Id="rId20" Type="http://schemas.openxmlformats.org/officeDocument/2006/relationships/audio" Target="../media/zipdn102.wav"/><Relationship Id="rId21" Type="http://schemas.openxmlformats.org/officeDocument/2006/relationships/audio" Target="../media/children%20big%20yeah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dn102.wav"/><Relationship Id="rId3" Type="http://schemas.openxmlformats.org/officeDocument/2006/relationships/audio" Target="../media/boinng04.wav"/><Relationship Id="rId4" Type="http://schemas.openxmlformats.org/officeDocument/2006/relationships/audio" Target="../media/boinng04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zipdn102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zipdn102.wav"/><Relationship Id="rId13" Type="http://schemas.openxmlformats.org/officeDocument/2006/relationships/audio" Target="../media/caralarmoff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zipdn102.wav"/><Relationship Id="rId17" Type="http://schemas.openxmlformats.org/officeDocument/2006/relationships/audio" Target="../media/children%20big%20yeah.wav"/><Relationship Id="rId18" Type="http://schemas.openxmlformats.org/officeDocument/2006/relationships/audio" Target="../media/zipdn102.wav"/><Relationship Id="rId19" Type="http://schemas.openxmlformats.org/officeDocument/2006/relationships/audio" Target="../media/children%20big%20yeah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lzipup01.wav"/><Relationship Id="rId3" Type="http://schemas.openxmlformats.org/officeDocument/2006/relationships/audio" Target="../media/glass.wav"/><Relationship Id="rId4" Type="http://schemas.openxmlformats.org/officeDocument/2006/relationships/audio" Target="../media/zipdn102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boinng04.wav"/><Relationship Id="rId9" Type="http://schemas.openxmlformats.org/officeDocument/2006/relationships/audio" Target="../media/boinng04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zipdn102.wav"/><Relationship Id="rId17" Type="http://schemas.openxmlformats.org/officeDocument/2006/relationships/audio" Target="../media/caralarmoff.wav"/><Relationship Id="rId18" Type="http://schemas.openxmlformats.org/officeDocument/2006/relationships/audio" Target="../media/zipdn102.wav"/><Relationship Id="rId19" Type="http://schemas.openxmlformats.org/officeDocument/2006/relationships/audio" Target="../media/children%20big%20yeah.wav"/><Relationship Id="rId20" Type="http://schemas.openxmlformats.org/officeDocument/2006/relationships/audio" Target="../media/zipdn102.wav"/><Relationship Id="rId21" Type="http://schemas.openxmlformats.org/officeDocument/2006/relationships/audio" Target="../media/children%20big%20yeah.wav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audio" Target="../media/zipup202.wav"/><Relationship Id="rId10" Type="http://schemas.openxmlformats.org/officeDocument/2006/relationships/audio" Target="../media/highchime.wav"/><Relationship Id="rId11" Type="http://schemas.openxmlformats.org/officeDocument/2006/relationships/audio" Target="../media/zipby102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zapvib04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boinng04.wav"/><Relationship Id="rId12" Type="http://schemas.openxmlformats.org/officeDocument/2006/relationships/audio" Target="../media/boinng04.wav"/><Relationship Id="rId13" Type="http://schemas.openxmlformats.org/officeDocument/2006/relationships/audio" Target="../media/boinng04.wav"/><Relationship Id="rId14" Type="http://schemas.openxmlformats.org/officeDocument/2006/relationships/audio" Target="../media/boinng04.wav"/><Relationship Id="rId15" Type="http://schemas.openxmlformats.org/officeDocument/2006/relationships/audio" Target="../media/zipdn102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zipdn102.wav"/><Relationship Id="rId20" Type="http://schemas.openxmlformats.org/officeDocument/2006/relationships/audio" Target="../media/caralarmoff.wav"/><Relationship Id="rId21" Type="http://schemas.openxmlformats.org/officeDocument/2006/relationships/audio" Target="../media/zipdn102.wav"/><Relationship Id="rId22" Type="http://schemas.openxmlformats.org/officeDocument/2006/relationships/audio" Target="../media/caralarmoff.wav"/><Relationship Id="rId23" Type="http://schemas.openxmlformats.org/officeDocument/2006/relationships/audio" Target="../media/zipdn102.wav"/><Relationship Id="rId24" Type="http://schemas.openxmlformats.org/officeDocument/2006/relationships/audio" Target="../media/children%20big%20yeah.wav"/><Relationship Id="rId25" Type="http://schemas.openxmlformats.org/officeDocument/2006/relationships/audio" Target="../media/zipdn102.wav"/><Relationship Id="rId26" Type="http://schemas.openxmlformats.org/officeDocument/2006/relationships/audio" Target="../media/children%20big%20yeah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lzipup01.wav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99320" y="35244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676520"/>
            <a:ext cx="8686800" cy="41148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1880" y="3567240"/>
          <a:ext cx="4611600" cy="18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1880" y="3567240"/>
                    <a:ext cx="461160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900080" y="3564000"/>
          <a:ext cx="4611960" cy="188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0080" y="3564000"/>
                    <a:ext cx="461196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tic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olutions of the quadratic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2039760"/>
          <a:ext cx="3962520" cy="90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2039760"/>
                    <a:ext cx="3962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2895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given by 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Quadratic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89280" y="3659040"/>
          <a:ext cx="1069920" cy="80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89280" y="3659040"/>
                    <a:ext cx="10699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759040" y="3537000"/>
          <a:ext cx="3635280" cy="968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59040" y="3537000"/>
                    <a:ext cx="36352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755800" y="3533760"/>
          <a:ext cx="3635640" cy="96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55800" y="3533760"/>
                    <a:ext cx="3635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701880" y="3570120"/>
          <a:ext cx="2651400" cy="912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01880" y="3570120"/>
                    <a:ext cx="26514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887480" y="3657600"/>
          <a:ext cx="1069920" cy="808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887480" y="3657600"/>
                    <a:ext cx="10699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699000" y="3568680"/>
          <a:ext cx="2651040" cy="912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699000" y="3568680"/>
                    <a:ext cx="26510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Quadratic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4200" y="1725480"/>
                <a:ext cx="3971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7760" y="2328840"/>
                <a:ext cx="71899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68400" y="2610000"/>
                <a:ext cx="7682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15880" y="4116240"/>
                <a:ext cx="3646440" cy="20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</m:e>
                        </m:ra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14560" y="4264200"/>
                <a:ext cx="784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06880" y="4116240"/>
                <a:ext cx="404028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1133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quadratic formula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014640" y="2635200"/>
                <a:ext cx="768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460840" y="2679840"/>
                <a:ext cx="374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408720" y="2643120"/>
                <a:ext cx="430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535200" y="3460680"/>
                <a:ext cx="37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664000" y="4243320"/>
                <a:ext cx="1288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917720" y="510840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110280" y="430992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788160" y="4260960"/>
                <a:ext cx="23558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85120" y="4280040"/>
                <a:ext cx="56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3287880" y="5622840"/>
            <a:ext cx="1809720" cy="973080"/>
            <a:chOff x="3287880" y="5622840"/>
            <a:chExt cx="1809720" cy="973080"/>
          </a:xfrm>
        </p:grpSpPr>
        <p:sp>
          <p:nvSpPr>
            <p:cNvPr id="84" name=""/>
            <p:cNvSpPr/>
            <p:nvPr/>
          </p:nvSpPr>
          <p:spPr>
            <a:xfrm>
              <a:off x="3287880" y="5622840"/>
              <a:ext cx="1809720" cy="9730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3666960" y="5727600"/>
                  <a:ext cx="50508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57560" y="5711760"/>
                <a:ext cx="7286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11200" y="5518080"/>
                <a:ext cx="5223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189080" y="5518080"/>
                <a:ext cx="5223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Quadratic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36680" y="1725480"/>
                <a:ext cx="4336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7760" y="2328840"/>
                <a:ext cx="71899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82520" y="2604960"/>
                <a:ext cx="3844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0" y="4192560"/>
                <a:ext cx="383076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</m:e>
                        </m:ra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19440" y="4303800"/>
                <a:ext cx="784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608280" y="4178160"/>
                <a:ext cx="316728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1133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quadratic formula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46480" y="2630520"/>
                <a:ext cx="3841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60840" y="2679840"/>
                <a:ext cx="374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242040" y="2643120"/>
                <a:ext cx="7653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535200" y="3460680"/>
                <a:ext cx="37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460600" y="4275000"/>
                <a:ext cx="1344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17720" y="510840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099120" y="4329000"/>
                <a:ext cx="3920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338880" y="4260960"/>
                <a:ext cx="28051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467560" y="4280040"/>
                <a:ext cx="393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606760" y="5643720"/>
            <a:ext cx="2158560" cy="973080"/>
            <a:chOff x="2606760" y="5643720"/>
            <a:chExt cx="2158560" cy="973080"/>
          </a:xfrm>
        </p:grpSpPr>
        <p:sp>
          <p:nvSpPr>
            <p:cNvPr id="108" name=""/>
            <p:cNvSpPr/>
            <p:nvPr/>
          </p:nvSpPr>
          <p:spPr>
            <a:xfrm>
              <a:off x="2606760" y="5643720"/>
              <a:ext cx="2158560" cy="9730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2638080" y="5756400"/>
                  <a:ext cx="109800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505320" y="5732640"/>
                <a:ext cx="12888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3280" y="5518080"/>
                <a:ext cx="8701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81080" y="5518080"/>
                <a:ext cx="10875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Quadratic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9840" y="1725480"/>
                <a:ext cx="3012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9760" y="2328840"/>
                <a:ext cx="74898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81160" y="2629080"/>
                <a:ext cx="417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760" y="4192560"/>
                <a:ext cx="372744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</m:e>
                        </m:ra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78120" y="4311720"/>
                <a:ext cx="392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603600" y="4159080"/>
                <a:ext cx="305928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1133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quadratic formula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444840" y="2674800"/>
                <a:ext cx="298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654520" y="2658960"/>
                <a:ext cx="37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67400" y="2624040"/>
                <a:ext cx="860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846600" y="3498840"/>
                <a:ext cx="372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78080" y="4322880"/>
                <a:ext cx="1400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17720" y="510840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810400" y="4302000"/>
                <a:ext cx="8953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450120" y="4281480"/>
                <a:ext cx="26938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412120" y="4251240"/>
                <a:ext cx="506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2606760" y="5643720"/>
            <a:ext cx="2158920" cy="973080"/>
            <a:chOff x="2606760" y="5643720"/>
            <a:chExt cx="2158920" cy="973080"/>
          </a:xfrm>
        </p:grpSpPr>
        <p:sp>
          <p:nvSpPr>
            <p:cNvPr id="132" name=""/>
            <p:cNvSpPr/>
            <p:nvPr/>
          </p:nvSpPr>
          <p:spPr>
            <a:xfrm>
              <a:off x="2606760" y="5643720"/>
              <a:ext cx="2158920" cy="9730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03680" y="5756400"/>
                  <a:ext cx="61092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349800" y="5713560"/>
                <a:ext cx="12888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06440" y="5518080"/>
                <a:ext cx="5223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89080" y="5518080"/>
                <a:ext cx="8697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405240" y="2120760"/>
            <a:ext cx="1049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703760" y="1684440"/>
                <a:ext cx="3149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a Vertical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8116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You retrieve a football from a tree 25 feet above ground. You throw it downward with an initial speed of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0 feet per second.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Use a vertical motion model to find how long it will take for the football to reach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46200" y="3265560"/>
          <a:ext cx="467352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3265560"/>
                    <a:ext cx="46735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629240" y="3406680"/>
          <a:ext cx="4395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9240" y="3406680"/>
                    <a:ext cx="43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759280" y="3389400"/>
          <a:ext cx="730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9280" y="3389400"/>
                    <a:ext cx="73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525680" y="3406680"/>
          <a:ext cx="43812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5680" y="34066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a Vertical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2400" y="1123920"/>
            <a:ext cx="4964040" cy="750960"/>
            <a:chOff x="1292400" y="1123920"/>
            <a:chExt cx="4964040" cy="750960"/>
          </a:xfrm>
        </p:grpSpPr>
        <p:graphicFrame>
          <p:nvGraphicFramePr>
            <p:cNvPr id="153" name=""/>
            <p:cNvGraphicFramePr/>
            <p:nvPr/>
          </p:nvGraphicFramePr>
          <p:xfrm>
            <a:off x="1312920" y="1123920"/>
            <a:ext cx="4673520" cy="750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12920" y="1123920"/>
                      <a:ext cx="4673520" cy="7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4395960" y="1265400"/>
            <a:ext cx="43956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95960" y="1265400"/>
                      <a:ext cx="4395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5526000" y="1247760"/>
            <a:ext cx="73044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26000" y="1247760"/>
                      <a:ext cx="7304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1292400" y="1265400"/>
            <a:ext cx="4381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92400" y="1265400"/>
                      <a:ext cx="438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7920" y="1765440"/>
                <a:ext cx="74898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050840" y="2060640"/>
                <a:ext cx="5968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0" y="3697200"/>
                <a:ext cx="326088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</m:e>
                        </m:ra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38160" y="3854520"/>
                <a:ext cx="560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166920" y="3751200"/>
                <a:ext cx="311328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52720" y="2087640"/>
                <a:ext cx="426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96000" y="2071800"/>
                <a:ext cx="12301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553080" y="2060640"/>
                <a:ext cx="763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59240" y="2911320"/>
                <a:ext cx="1225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53960" y="3827520"/>
                <a:ext cx="19609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23760" y="4654440"/>
                <a:ext cx="13464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694400" y="3951360"/>
                <a:ext cx="1454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404040" y="3873600"/>
                <a:ext cx="19652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473960" y="3882960"/>
                <a:ext cx="900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5" name=""/>
          <p:cNvGrpSpPr/>
          <p:nvPr/>
        </p:nvGrpSpPr>
        <p:grpSpPr>
          <a:xfrm>
            <a:off x="2606760" y="5202360"/>
            <a:ext cx="2158920" cy="1422360"/>
            <a:chOff x="2606760" y="5202360"/>
            <a:chExt cx="2158920" cy="1422360"/>
          </a:xfrm>
        </p:grpSpPr>
        <p:sp>
          <p:nvSpPr>
            <p:cNvPr id="176" name=""/>
            <p:cNvSpPr/>
            <p:nvPr/>
          </p:nvSpPr>
          <p:spPr>
            <a:xfrm>
              <a:off x="2606760" y="5235480"/>
              <a:ext cx="2158920" cy="13813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673360" y="5202360"/>
                  <a:ext cx="70956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654360" y="5137200"/>
                <a:ext cx="8143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1520" y="5518080"/>
                <a:ext cx="11318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87440" y="5518080"/>
                <a:ext cx="7826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 flipH="1">
            <a:off x="2742840" y="5311800"/>
            <a:ext cx="895320" cy="1147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03600" y="5291280"/>
            <a:ext cx="857160" cy="120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3440" y="5545080"/>
            <a:ext cx="43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 will reach the ground in 1.25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.skelton</cp:lastModifiedBy>
  <dcterms:modified xsi:type="dcterms:W3CDTF">2005-01-20T14:53:03Z</dcterms:modified>
  <cp:revision>36</cp:revision>
  <dc:subject/>
  <dc:title>No Slide Title</dc:title>
</cp:coreProperties>
</file>